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G Times"/>
              </a:rPr>
              <a:t>Click to move the slide</a:t>
            </a:r>
            <a:endParaRPr b="1" lang="en-US" sz="6000" spc="-1" strike="noStrike">
              <a:solidFill>
                <a:srgbClr val="0066ff"/>
              </a:solidFill>
              <a:latin typeface="CG Time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78483D-3448-44C8-9750-2CD13F914385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B405DB-DFB1-459A-92C5-66C7B29A85C8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839AD3-D227-429F-8C7D-45CECF2690B0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trust the lii.org more than many referrals.  If there are annotations by professionals, that hel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den is on you, al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link: search example in Goo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http://www.hanksville.org/yucatan/mayac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A4ADD1-C8BD-45AC-B172-3B68312365F6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282B6C-B54D-4BE0-B7FE-85A8F9433442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EDA4B6-613F-47F9-9735-C282E7167A39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698480" y="380880"/>
            <a:ext cx="3562560" cy="2671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8320" y="3204720"/>
            <a:ext cx="591048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482195-2DA6-48F5-AD4E-9D36DB16F854}" type="slidenum"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larendon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852560" y="380880"/>
            <a:ext cx="3252960" cy="2440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03668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se procedures fairly quickly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n exercise to lear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ant them to be able to understand the form and what it s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APPROPRIATE FOR THE 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trust a NYT times article from a personal page as much as one from nytimes.c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py of Jackie Onassis’s will from a personal page as much as one from the California Bar Assn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personal page would be: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aol.com/~j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loosely paralleled by the sequence of the form in the next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3984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62160" y="152388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1752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03984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762160" y="4230360"/>
            <a:ext cx="259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543600"/>
            <a:ext cx="8001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43480" y="423036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52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3480" y="1523880"/>
            <a:ext cx="3929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7520" y="4230360"/>
            <a:ext cx="805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be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86600" y="-115560"/>
            <a:ext cx="19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Beyond</a:t>
            </a:r>
            <a:r>
              <a:rPr b="0" lang="en-US" sz="4800" spc="-1" strike="noStrike">
                <a:solidFill>
                  <a:srgbClr val="ffcc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7821720" y="1180080"/>
            <a:ext cx="19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371600" y="1009800"/>
            <a:ext cx="6497640" cy="2190600"/>
            <a:chOff x="1371600" y="1009800"/>
            <a:chExt cx="6497640" cy="2190600"/>
          </a:xfrm>
        </p:grpSpPr>
        <p:sp>
          <p:nvSpPr>
            <p:cNvPr id="41" name=""/>
            <p:cNvSpPr/>
            <p:nvPr/>
          </p:nvSpPr>
          <p:spPr>
            <a:xfrm>
              <a:off x="1371600" y="1009800"/>
              <a:ext cx="3886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cc00"/>
                  </a:solidFill>
                  <a:latin typeface="Georgia"/>
                </a:rPr>
                <a:t>Beyond</a:t>
              </a:r>
              <a:r>
                <a:rPr b="1" lang="en-US" sz="8000" spc="-1" strike="noStrike">
                  <a:solidFill>
                    <a:srgbClr val="ffcc00"/>
                  </a:solidFill>
                  <a:latin typeface="Clarendon Condensed"/>
                </a:rPr>
                <a:t> 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03400" y="1765800"/>
              <a:ext cx="4065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66ff"/>
                  </a:solidFill>
                  <a:latin typeface="Georgia"/>
                </a:rPr>
                <a:t>G</a:t>
              </a:r>
              <a:r>
                <a:rPr b="1" lang="en-US" sz="8800" spc="-1" strike="noStrike">
                  <a:solidFill>
                    <a:srgbClr val="ff3300"/>
                  </a:solidFill>
                  <a:latin typeface="Georgia"/>
                </a:rPr>
                <a:t>o</a:t>
              </a:r>
              <a:r>
                <a:rPr b="1" lang="en-US" sz="8800" spc="-1" strike="noStrike">
                  <a:solidFill>
                    <a:srgbClr val="eee800"/>
                  </a:solidFill>
                  <a:latin typeface="Georgia"/>
                </a:rPr>
                <a:t>o</a:t>
              </a:r>
              <a:r>
                <a:rPr b="1" lang="en-US" sz="8800" spc="-1" strike="noStrike">
                  <a:solidFill>
                    <a:srgbClr val="0066ff"/>
                  </a:solidFill>
                  <a:latin typeface="Georgia"/>
                </a:rPr>
                <a:t>g</a:t>
              </a:r>
              <a:r>
                <a:rPr b="1" lang="en-US" sz="8800" spc="-1" strike="noStrike">
                  <a:solidFill>
                    <a:srgbClr val="00d600"/>
                  </a:solidFill>
                  <a:latin typeface="Georgia"/>
                </a:rPr>
                <a:t>l</a:t>
              </a:r>
              <a:r>
                <a:rPr b="1" lang="en-US" sz="8800" spc="-1" strike="noStrike">
                  <a:solidFill>
                    <a:srgbClr val="ff3300"/>
                  </a:solidFill>
                  <a:latin typeface="Georgia"/>
                </a:rPr>
                <a:t>e</a:t>
              </a:r>
              <a:endParaRPr b="0" lang="en-US" sz="8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G Times"/>
              </a:rPr>
              <a:t>Click to edit the title text format</a:t>
            </a:r>
            <a:endParaRPr b="1" lang="en-US" sz="6000" spc="-1" strike="noStrike">
              <a:solidFill>
                <a:srgbClr val="0066ff"/>
              </a:solidFill>
              <a:latin typeface="CG Time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be7d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-359280" y="4873680"/>
            <a:ext cx="19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Beyond</a:t>
            </a:r>
            <a:r>
              <a:rPr b="0" lang="en-US" sz="4800" spc="-1" strike="noStrike">
                <a:solidFill>
                  <a:srgbClr val="ffcc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1200" y="6018120"/>
            <a:ext cx="19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eee800"/>
                </a:solidFill>
                <a:latin typeface="Georgia"/>
              </a:rPr>
              <a:t>o</a:t>
            </a:r>
            <a:r>
              <a:rPr b="1" lang="en-US" sz="4000" spc="-1" strike="noStrike">
                <a:solidFill>
                  <a:srgbClr val="0066ff"/>
                </a:solidFill>
                <a:latin typeface="Georgia"/>
              </a:rPr>
              <a:t>g</a:t>
            </a:r>
            <a:r>
              <a:rPr b="1" lang="en-US" sz="4000" spc="-1" strike="noStrike">
                <a:solidFill>
                  <a:srgbClr val="00d600"/>
                </a:solidFill>
                <a:latin typeface="Georgia"/>
              </a:rPr>
              <a:t>l</a:t>
            </a:r>
            <a:r>
              <a:rPr b="1" lang="en-US" sz="4000" spc="-1" strike="noStrike">
                <a:solidFill>
                  <a:srgbClr val="ff3300"/>
                </a:solidFill>
                <a:latin typeface="Georgia"/>
              </a:rPr>
              <a:t>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s.houstonisd.org/hspva/academic/Science/Thinkquest/gail/text/ethics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irectory.google.com/" TargetMode="External"/><Relationship Id="rId3" Type="http://schemas.openxmlformats.org/officeDocument/2006/relationships/hyperlink" Target="http://dir.yahoo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473760"/>
            <a:ext cx="61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G Times"/>
              </a:rPr>
              <a:t>Research Quality Web Searching, Part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574280" y="3873600"/>
            <a:ext cx="695988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Joe Bark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jbarker at library.berkeley.ed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John Kupersmith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jkupersm at library.berkeley.ed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180000"/>
              </a:lnSpc>
              <a:spcBef>
                <a:spcPts val="60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“Know Your Library” Workshop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aching Library, University of California, Berke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pring 200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90800"/>
            <a:ext cx="80010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Scan the perimeter of the pag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35684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Can you tell who wrote it ?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name of page autho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organization, institution, agency you recogniz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e-mail contact by itself not enough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Credentials for the subject matter ?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Look for links to: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99ff33"/>
                </a:solidFill>
                <a:latin typeface="Arial"/>
              </a:rPr>
              <a:t>About us”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“Philosophy”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ccecff"/>
                </a:solidFill>
                <a:latin typeface="Arial"/>
              </a:rPr>
              <a:t>“Background”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6699"/>
                </a:solidFill>
                <a:latin typeface="Arial"/>
              </a:rPr>
              <a:t>“Biography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Is it recent or current enough ?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Look for “last updated” date - usually at bottom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If no links or other clues..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runcate back the UR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be7d"/>
                </a:solidFill>
                <a:uFillTx/>
                <a:latin typeface="Arial"/>
                <a:hlinkClick r:id="rId2"/>
              </a:rPr>
              <a:t>http://hs.houstonisd.org/hspva/academic/Science/Thinkquest/gail/text/ethics.html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br>
              <a:rPr sz="2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dicators of qu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rces documen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nks, footnot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s detailed as you expect in print publications 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 the links work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ormation retyped or forg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y not a link to published version instead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nks to other resourc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iased, slanted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5720"/>
            <a:ext cx="64008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br>
              <a:rPr sz="24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at Do Others Say 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7524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arch the URL in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exa.c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ho links to the site? Who owns the domain?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ype or paste the URL into the basic search box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raffic for top 100,000 si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what links are in Google’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imilar pag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up the page author in Goog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238680"/>
            <a:ext cx="80010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TEP BACK  &amp;  ASK: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oes it all add up 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was the page put on the Web 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form with facts and data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plain, persuade?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ll, entice?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are, disclose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a parody or satir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it appropriate for your purpo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482760"/>
            <a:ext cx="8001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Try evaluating some sites.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arch a controversial topic i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oogl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"nuclear armageddon"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ions dang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stem cells” abor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an the first two pages of resul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isit one or two sit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ry to evaluate their quality and reliabil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280" y="5991120"/>
            <a:ext cx="6516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5a00"/>
                </a:solidFill>
                <a:latin typeface="Arial"/>
              </a:rPr>
              <a:t>Use the worksheet as a guide to techniq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ther good search engi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ubject directories – built by peop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d6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aluating what you fi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ther good search engi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160" y="1523880"/>
            <a:ext cx="7759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0" t="0" r="39025" b="-20789"/>
          <a:stretch/>
        </p:blipFill>
        <p:spPr>
          <a:xfrm>
            <a:off x="1981080" y="1981080"/>
            <a:ext cx="2438640" cy="6876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209680" y="3276720"/>
            <a:ext cx="1960200" cy="1117440"/>
            <a:chOff x="2209680" y="3276720"/>
            <a:chExt cx="1960200" cy="111744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2209680" y="3276720"/>
              <a:ext cx="1676160" cy="11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336840" y="3883680"/>
              <a:ext cx="83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cc"/>
                  </a:solidFill>
                  <a:latin typeface="Arial"/>
                  <a:ea typeface="Arial"/>
                </a:rPr>
                <a:t>.com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04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mall directorie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ilt by information speciali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lected, evaluated, annota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ganized into subject categorie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brarians’ Internet Index (lii.org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 a group of California library professional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o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 UC consortium of library professional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ademic Inf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 a librarian in Arizo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54360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rger director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805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ogle Web directo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be7d"/>
                </a:solidFill>
                <a:uFillTx/>
                <a:latin typeface="Arial"/>
                <a:hlinkClick r:id="rId2"/>
              </a:rPr>
              <a:t>http://directory.google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5+ million pages  -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ss than 0.04% of Google web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out.com –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ollection of specialized director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arch by su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ahoo’s directo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be7d"/>
                </a:solidFill>
                <a:uFillTx/>
                <a:latin typeface="Arial"/>
                <a:hlinkClick r:id="rId3"/>
              </a:rPr>
              <a:t>http://dir.yahoo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 million UNevaluated pag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bout 0.06% of Yahoo! searc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-1080"/>
            <a:ext cx="8001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Finding “expert pages” and searchable databas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in all the directories just mention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bases and “expert pages” scattered througho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routine searching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If a site calls itself a </a:t>
            </a:r>
            <a:r>
              <a:rPr b="0" i="1" lang="en-US" sz="2200" spc="-1" strike="noStrike">
                <a:solidFill>
                  <a:srgbClr val="ffffcc"/>
                </a:solidFill>
                <a:latin typeface="Arial"/>
              </a:rPr>
              <a:t>directory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ffffcc"/>
                </a:solidFill>
                <a:latin typeface="Arial"/>
              </a:rPr>
              <a:t>database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, you can search on i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enome database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8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ee800"/>
                </a:solidFill>
                <a:latin typeface="Arial"/>
              </a:rPr>
              <a:t>cell biology” directo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ook for society’s pages with collections of links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genome soc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ome Page of</a:t>
            </a:r>
            <a:r>
              <a:rPr b="1" lang="en-US" sz="2000" spc="-1" strike="noStrike">
                <a:solidFill>
                  <a:srgbClr val="eee800"/>
                </a:solidFill>
                <a:latin typeface="Arial"/>
              </a:rPr>
              <a:t> “International mammalian genome society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17520" y="1523880"/>
            <a:ext cx="8051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3800" indent="-523800" algn="ctr">
              <a:lnSpc>
                <a:spcPct val="13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AMPLE SEARCHE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lvl="1" marL="1028880" indent="-390600">
              <a:lnSpc>
                <a:spcPct val="13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Yahoo, Ask.com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  <a:p>
            <a:pPr lvl="1" marL="1028880" indent="-390600">
              <a:lnSpc>
                <a:spcPct val="13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Directories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RITICAL EVALUATION</a:t>
            </a:r>
            <a:br>
              <a:rPr sz="40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y Evaluate What You Find on the Web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one can put up a Web p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out anyth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ny pages not kept up-to-d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quality contr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sites not “peer-reviewed”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s trustworthy than scholarly public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selection guidelines for search engin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Evaluation Techniques</a:t>
            </a:r>
            <a:br>
              <a:rPr sz="24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efore you click to view the page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ok at th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URL -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sonal page or site ?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%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r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ser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mber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main name appropriate for the content ?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edu, com, org, net, gov, ca.us, uk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by an entity that makes sense 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ews from its source?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nytimes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.co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dvice from valid agency?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ih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.gov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www.nlm.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ih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.gov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4" marL="228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www.nimh.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ih</a:t>
            </a: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.gov/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3:03:14Z</dcterms:created>
  <dc:creator>Library Systems Office</dc:creator>
  <dc:description/>
  <dc:language>en-US</dc:language>
  <cp:lastModifiedBy>Joe Barker</cp:lastModifiedBy>
  <dcterms:modified xsi:type="dcterms:W3CDTF">2007-05-10T17:53:00Z</dcterms:modified>
  <cp:revision>25</cp:revision>
  <dc:subject/>
  <dc:title>PowerPoint Presentation</dc:title>
</cp:coreProperties>
</file>